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66966"/>
        <c:axId val="14845497"/>
      </c:barChart>
      <c:catAx>
        <c:axId val="34366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45497"/>
        <c:crosses val="autoZero"/>
        <c:auto val="1"/>
        <c:lblAlgn val="ctr"/>
        <c:lblOffset val="100"/>
        <c:noMultiLvlLbl val="0"/>
      </c:catAx>
      <c:valAx>
        <c:axId val="14845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66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48D-5006-47FE-B49A-175D99C1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259-BECA-495B-A734-FD925287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266-6652-44F6-9D96-94361783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D6E-241A-4753-B7A1-6B08ACFD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E9A-A9BE-4047-9B5E-C5E38D6A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619-AF73-4E23-823B-36B832FA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898-B48F-44A1-A103-AD88A7BE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2ED-ED6D-4305-9568-93B00115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69A-0481-4F60-8247-25FAEFF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934-5F90-45D3-B1A5-00C0F215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A15-3E59-41AE-BFB0-D85D376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2BD-BEED-4436-A4F3-F80C9E9A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718CA-2631-41B8-85AD-042A3B4499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