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2036"/>
        <c:axId val="71697739"/>
      </c:barChart>
      <c:catAx>
        <c:axId val="5522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97739"/>
        <c:crosses val="autoZero"/>
        <c:auto val="1"/>
        <c:lblAlgn val="ctr"/>
        <c:lblOffset val="100"/>
        <c:noMultiLvlLbl val="0"/>
      </c:catAx>
      <c:valAx>
        <c:axId val="71697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57F-1786-4620-83D3-775F6AD2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0AF-0601-48E9-BD9A-B6A66D2B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955-CAA0-4B07-B4D8-E7718E51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BDA-2E50-4812-B9FE-BBF3E727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E74-C9DA-484B-A2F8-29CF874B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281-C593-4D27-A1BC-B96EDDFC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8C7-D8EB-4A92-8AFE-19840FA0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8D9-596B-4E61-B4EF-6938D59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F76-ADFB-4573-BEF7-A1BC2D47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F9E-CC31-4997-A097-C68763E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143-F62D-40C2-B31D-621A989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C36-CDA6-4D00-A5C0-AA288707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500AE-594F-433D-AA50-058216C180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