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59619"/>
        <c:axId val="30251173"/>
      </c:barChart>
      <c:catAx>
        <c:axId val="58596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51173"/>
        <c:crosses val="autoZero"/>
        <c:auto val="1"/>
        <c:lblAlgn val="ctr"/>
        <c:lblOffset val="100"/>
        <c:noMultiLvlLbl val="0"/>
      </c:catAx>
      <c:valAx>
        <c:axId val="302511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96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EAB6-8B24-4168-8FF0-AC1E3E1E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3E8D-F1AE-4C6C-A961-A5393114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1840-E397-4DC6-BA7C-882D0A66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E61B-7DC0-42DC-8C77-E3A4171C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A8FB-184E-459A-9DFF-FD7B4FD0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3074-5597-437F-92D5-50F65296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B54A-81F1-43F3-B160-EE46641E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21B3-9F1B-4BAE-AF7B-0C33A383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621B-FB09-4EE6-941D-9105CD6E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481B-FBEA-42F9-9D7C-0F4F2E27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764E-6D09-43E1-BBFA-43CF1E87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C7F7-8F98-4E40-B424-43C44101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93C5F-7A2A-48AB-81A8-5FFE987EAA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