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67924"/>
        <c:axId val="36972836"/>
      </c:barChart>
      <c:catAx>
        <c:axId val="36067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72836"/>
        <c:crosses val="autoZero"/>
        <c:auto val="1"/>
        <c:lblAlgn val="ctr"/>
        <c:lblOffset val="100"/>
        <c:noMultiLvlLbl val="0"/>
      </c:catAx>
      <c:valAx>
        <c:axId val="36972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67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001-8B5A-4DC8-B4FD-3848AF67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52C-7924-426B-95D1-F35B50D3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A69-1188-4DE8-A61E-B39C416C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A9F-8045-46F1-92E8-2EC31687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861-C19D-43D5-B877-0A4E8DAC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207-9B3D-45C2-9ABD-76BA941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6D9-FFC1-40CE-AB87-1D73B466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1B8-23AA-485E-B1D7-DDC524C6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8AF-9D56-4CDC-AFD7-3FCCF78D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747-0A36-4626-B45D-18749D9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027-8019-4163-8397-68896B95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DEB-A69F-4186-BB18-70418294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85676-CC0C-4317-8D55-142B52913D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