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09291"/>
        <c:axId val="53770730"/>
      </c:barChart>
      <c:catAx>
        <c:axId val="73509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70730"/>
        <c:crosses val="autoZero"/>
        <c:auto val="1"/>
        <c:lblAlgn val="ctr"/>
        <c:lblOffset val="100"/>
        <c:noMultiLvlLbl val="0"/>
      </c:catAx>
      <c:valAx>
        <c:axId val="53770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09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125-AF34-4FE4-82C4-7A96460F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9D7-F0CA-4CC5-AB7E-7F8A0E5A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DE9-44CA-43C9-8523-BED4F904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1A6-334F-4E0A-AEB5-43A72EAF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66F-5FF4-431D-BAC5-D2B74D9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B5F-1995-4B97-94A3-894D05D2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19F-8F06-4319-BB5E-942F5F1B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0E2-784C-4905-8090-0A2C6974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7E4-9A75-4419-AB7A-7343C941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F00-7693-4D06-93AA-4F8ECC1F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185-2035-4998-B6E7-1D2F09D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B1B-8530-4D1A-8351-0B4C1911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5F84E-5FD0-47B7-BD45-8C4481334F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